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1076-554C-44EA-AF2A-74ABA171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7D1-2DA2-433D-B62F-5AC2CAB6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B42-10CC-4857-AA4B-8D5D0455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10E-FAC5-4690-BE18-88A262C8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5F93-1060-4118-BA08-CD4DF007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C10-AF1F-445C-8F91-051245B8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3D2-2E9F-4997-B4B9-4BE3253F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4AE-4F99-4F48-BAD3-23BD803C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17C7-5BB6-49BC-83D9-57EA5FBB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2F36-2AFA-4BC9-8C67-42381545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89B-59A3-4A33-B32C-7394BF00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EE1-B464-4B09-B435-52817EF3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A5CA-BB1C-4059-B515-C57C514051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hifflet 3"/>
          <p:cNvPicPr/>
          <p:nvPr/>
        </p:nvPicPr>
        <p:blipFill>
          <a:blip r:embed="rId1"/>
          <a:stretch/>
        </p:blipFill>
        <p:spPr>
          <a:xfrm>
            <a:off x="3297240" y="260280"/>
            <a:ext cx="1225440" cy="1157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Whifflet 4"/>
          <p:cNvPicPr/>
          <p:nvPr/>
        </p:nvPicPr>
        <p:blipFill>
          <a:blip r:embed="rId2"/>
          <a:stretch/>
        </p:blipFill>
        <p:spPr>
          <a:xfrm>
            <a:off x="4737240" y="189000"/>
            <a:ext cx="127620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Whifflet Park"/>
          <p:cNvPicPr/>
          <p:nvPr/>
        </p:nvPicPr>
        <p:blipFill>
          <a:blip r:embed="rId3"/>
          <a:stretch/>
        </p:blipFill>
        <p:spPr>
          <a:xfrm>
            <a:off x="8048520" y="40464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Lanarkshire Ex Pres 1"/>
          <p:cNvPicPr/>
          <p:nvPr/>
        </p:nvPicPr>
        <p:blipFill>
          <a:blip r:embed="rId4"/>
          <a:stretch/>
        </p:blipFill>
        <p:spPr>
          <a:xfrm>
            <a:off x="272880" y="1916280"/>
            <a:ext cx="1079640" cy="108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anarkshire Ex Pres 25th"/>
          <p:cNvPicPr/>
          <p:nvPr/>
        </p:nvPicPr>
        <p:blipFill>
          <a:blip r:embed="rId5"/>
          <a:stretch/>
        </p:blipFill>
        <p:spPr>
          <a:xfrm>
            <a:off x="1784520" y="1700280"/>
            <a:ext cx="1133280" cy="1289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Lanarkshire Ex Pres Millennium"/>
          <p:cNvPicPr/>
          <p:nvPr/>
        </p:nvPicPr>
        <p:blipFill>
          <a:blip r:embed="rId6"/>
          <a:stretch/>
        </p:blipFill>
        <p:spPr>
          <a:xfrm>
            <a:off x="3513240" y="1989000"/>
            <a:ext cx="877680" cy="1033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FFLET                                    WHIFFLET                                   WHIFFLET                                  WHIFFLET                                  WHIFFLET  100TH                        WHIFFLET  PARK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08924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Whifflet 2"/>
          <p:cNvPicPr/>
          <p:nvPr/>
        </p:nvPicPr>
        <p:blipFill>
          <a:blip r:embed="rId7"/>
          <a:stretch/>
        </p:blipFill>
        <p:spPr>
          <a:xfrm>
            <a:off x="1784520" y="260280"/>
            <a:ext cx="1206360" cy="117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0" y="2997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NARKSHIRE  EX.  PRESIDENTS        EX.  PRES. 25TH                      EX  PRES  MILLENN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3" descr="Whifflet 1"/>
          <p:cNvPicPr/>
          <p:nvPr/>
        </p:nvPicPr>
        <p:blipFill>
          <a:blip r:embed="rId8"/>
          <a:stretch/>
        </p:blipFill>
        <p:spPr>
          <a:xfrm>
            <a:off x="200160" y="115920"/>
            <a:ext cx="139068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Whifflet 100th.jpg"/>
          <p:cNvPicPr/>
          <p:nvPr/>
        </p:nvPicPr>
        <p:blipFill>
          <a:blip r:embed="rId9"/>
          <a:stretch/>
        </p:blipFill>
        <p:spPr>
          <a:xfrm>
            <a:off x="6465960" y="333360"/>
            <a:ext cx="11192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6:11:54Z</dcterms:created>
  <dc:creator>JY</dc:creator>
  <dc:description/>
  <dc:language>en-US</dc:language>
  <cp:lastModifiedBy>John</cp:lastModifiedBy>
  <dcterms:modified xsi:type="dcterms:W3CDTF">2011-11-19T19:37:55Z</dcterms:modified>
  <cp:revision>4</cp:revision>
  <dc:subject/>
  <dc:title>Slide 1</dc:title>
</cp:coreProperties>
</file>